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F3D-3047-4856-A178-A2E58D03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B05-8AEA-48A2-BF9F-FAF7EEAA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151-C403-44A5-B861-C63735A6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2BD-FF3B-4ED7-93EC-3F2F2086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225-0AB7-4494-9188-A468D52C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FEB-46C2-4777-BF42-0AC38FEE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D0F-2489-4C47-8138-06FC19CA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A36-E8BD-45A8-BC3B-D4310B69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58B-714F-469D-B225-D913ED43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14B-FAD6-4B35-AE77-EE4A6FD2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E3E-C36D-4008-AC5E-76438921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688-0D79-4D2D-8C7A-2E35505D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7C3A-7D04-43E3-93D8-5DDFFD263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09680" y="2286000"/>
            <a:ext cx="4496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Financial Literacy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Stock Market Project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5257800"/>
            <a:ext cx="76960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Desmond, Thurman, Hunter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&amp; Vivian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95480" y="2590920"/>
            <a:ext cx="335304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NK YOU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4724280"/>
            <a:ext cx="16956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un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81080" y="4876920"/>
            <a:ext cx="2210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urm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91120" y="4952880"/>
            <a:ext cx="2305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mo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553080" y="5181480"/>
            <a:ext cx="15433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vi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533520"/>
            <a:ext cx="25146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Hunter Battl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523880"/>
            <a:ext cx="6934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nter picked FedEx (FDX), because it is a stable and rapidly growing busin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st time to buy this stock is before any given holiday because there is more demand and more people are looking to ship packages to friend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5720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ing the time that I followed the stock (4/12 – 5/3) it remained consistent at around $93.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362320" cy="67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.73 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.71 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.96 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week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week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.57 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6.01 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5.55 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8.29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week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week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week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7.29 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2.59 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0.27 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.40 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.38 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week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week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.85 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.92 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638680" y="380880"/>
            <a:ext cx="29718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Desmond Miller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990720"/>
            <a:ext cx="190512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5/5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5/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5/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5/2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29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28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27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26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25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21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20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19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18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15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/1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990720"/>
            <a:ext cx="167652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46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49.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4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46.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50.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46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50.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50.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53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5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42.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37.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31.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27.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32.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4952880" cy="2941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5029200" y="5486400"/>
            <a:ext cx="2428920" cy="56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bri"/>
              </a:rPr>
              <a:t>Apple (AAPL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14600" y="457200"/>
            <a:ext cx="4267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alibri"/>
              </a:rPr>
              <a:t>Why Desmond Choose Apple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828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hose Apple, because I believe that the investment will continue to grow only because they produce new technology that people u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429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purchased 7 shares at $332.26 which equaled up to $2325.8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5120" y="4191120"/>
            <a:ext cx="2143080" cy="2133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4267080"/>
            <a:ext cx="2523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80880"/>
            <a:ext cx="3233880" cy="10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Thurman Anderson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086600" cy="4208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105520" y="380880"/>
            <a:ext cx="3276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OOG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828800" y="533520"/>
            <a:ext cx="563400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Why Thurman choose Googl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2096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hose Google because I know that they will only continue to grow because they are stable and able to make smart decisions with their busine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3809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bought 4 shares at $570.61 which equals up to $2282.4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48006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tock went down to nearly $35.17 after the first few days and  the price was never able to regain its original stat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457200"/>
            <a:ext cx="369072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Vivian Campanell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620120" cy="4524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5029200" y="152280"/>
            <a:ext cx="30765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alibri"/>
              </a:rPr>
              <a:t>Urban Outfitte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057400" y="457200"/>
            <a:ext cx="5105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Why Vivian Chose URBN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66760"/>
            <a:ext cx="68580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12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/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/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/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04920"/>
            <a:ext cx="68580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0.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0.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0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2.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3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.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2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31/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1676520"/>
            <a:ext cx="6248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vian chose Urban Outfitters because it is a fairly new, up and coming type place that appeals to young te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also a place that she shops and wants to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$32.29 per stock, I purchased 100 stocks; a total of $3,23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hough URBN has not proven to be a booming business, it has been a good learning experi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4:03:14Z</dcterms:created>
  <dc:creator>Vivian</dc:creator>
  <dc:description/>
  <dc:language>en-US</dc:language>
  <cp:lastModifiedBy>Vivian</cp:lastModifiedBy>
  <dcterms:modified xsi:type="dcterms:W3CDTF">2011-05-17T02:02:54Z</dcterms:modified>
  <cp:revision>5</cp:revision>
  <dc:subject/>
  <dc:title>PowerPoint Presentation</dc:title>
</cp:coreProperties>
</file>